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084-8F95-4C3A-BD0D-465BBE0A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DBC-31C8-464A-A3FE-B56F5362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259-A995-4441-B47E-1597BB01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7CD-DFAF-4366-8396-1AD88B9D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558-7DC8-4050-8A07-222A6493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A4B-E209-4778-AD45-E1EDEE33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440-EA2E-4A22-9536-5093592E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416-D3D6-4ADB-967D-0B5FCD93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454-A34F-47E2-A711-E8FFA349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85E-9979-4EEE-9F9E-5AD341B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166-9BFB-431A-A561-0B6560ED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F2C-6971-4E95-B370-DC27A67F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DD52-2EFA-42A2-A519-7CBD9CE43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Health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 of Singapore and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ouraging Self-Re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amount of CPF contributions channeled to Medi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used to pay for hospital bills, medical trea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years, people have accepted Medisave as a means to pay medical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Medisave, people share the costs of healthcare with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need not raise taxes to pay for rising healthca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ouraging Self-Re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sh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ith long-term illnesses not able to pay their medical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healthcare insuranc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pay for scheme using Medi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make claims from Medi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years, use of Medishield has expa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Healthcare Affor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subsi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ubsidies given to govt hospitals, polyclinics and some nursing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basic healthcare available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ates of subsidies to different classes of wards, e.g. Class C wards receive th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Healthcare Affor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eedy S’poreans still cannot afford their medical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fund set up to help those not able to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with a fund of $2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earned given to public hospitals to provide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need to apply for the fund at the hosp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Healthcare Affor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ucturing of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ucturing means that hospitals have more freedom to reorganise to meet people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t also able to reduce hospital 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any felt that restructuring meant higher hospital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Healthcare Affor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-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cern is subsidies provided should benefit patients who need them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more fairly distributed if those who cannot afford get th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well-to-do would benefit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ing of patients ability to pay is means-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ing a Healthy Life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coping with rising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erson is in good health, he will not need medical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and workplaces have programmes to emphasise good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Organ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also provides healthcare services for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ossible for govt to run all health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welfare organisations and some private hospitals given grants to ru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s given by govt to organisations to provid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ervices cater to needs of the poor or a particular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3 Have Singapore’s healthcare policies met the needs of the peopl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various schemes, some people still cannot afford healthcar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derly is one such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group is those who are unable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health of the people of Singapore improved over the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1 Challenges facing gover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is a public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developed countries have no basic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countries provide better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from healthcare come from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1 Challenges facing gover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557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quality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expenditure on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are treated better in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medicine leads to higher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2 Paying for Health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: Self (Sav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: Personal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r: Employer-paid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r: Government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Healthcare in Singap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How was healthcare managed in the 1960s and 197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How has the approach to manage healthcare changed since the 198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 Have Singapore’s healthcare policies met the needs of the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1 How was healthcare managed in the 1960s and 1970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as part of public housing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tters cle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s, clinics and outpatient dispensaries b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Officers and nurses sent to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1 How was healthcare managed in the 1960s and 1970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standard of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’poreans wanted better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clinics replaced dispens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ies in hospitals im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on healthcare comes from the govt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2 How has the approach to manage healthcare changed since the 1980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Self-Re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Healthcare affor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ubsi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ing of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Healthy Life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2 How has the approach to manage healthcare changed since the 1980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Health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to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re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goo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healthcare affor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s healthy life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ppor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2:44:03Z</dcterms:created>
  <dc:creator>moe</dc:creator>
  <dc:description/>
  <dc:language>en-US</dc:language>
  <cp:lastModifiedBy>moe</cp:lastModifiedBy>
  <dcterms:modified xsi:type="dcterms:W3CDTF">2009-08-11T03:13:22Z</dcterms:modified>
  <cp:revision>5</cp:revision>
  <dc:subject/>
  <dc:title>Managing Healthcare</dc:title>
</cp:coreProperties>
</file>